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E54-90A0-4152-AB3C-D69D49A5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682-971B-47B4-BB37-700F204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9A6-20F2-4C7F-BD34-FF02F4C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F34-46BC-45AE-ABD5-7DD4E7DC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44A-DBB5-43DA-AEED-7D59B648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767-8823-48D5-8EED-851B6F9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A72-7143-4F85-9159-F018FE9D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B4C-C942-400C-87BD-6EB37FF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852-6F9E-4537-A437-880991F7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E5F-5752-44ED-BB1D-CC243D5F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57F-5F22-44AA-86BF-433A0E8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408-C9A3-4174-A438-D99D5EE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551-C667-4E3C-9300-D3293D84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8 Síl slabej vi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slabej viere, Pane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 každodenne znáš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nahe našej pom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verne kráč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ďačnú službu rozn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rivý lásky príkl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tvojej svätej ob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áva spásy výhľ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 údmi, Hlavou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je naša spása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Len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ile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torú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š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a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2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e žiť tu dá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Pane, všetkej moci zdr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j lásky prameň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chráň v svete každý klenot svoj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račná zloby zaž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38:14Z</dcterms:modified>
  <cp:revision>20</cp:revision>
  <dc:subject/>
  <dc:title>Je veľký náš Pán, on slávy je Kráľ Nech do všetkých strán  spev vrúcnych znie chvál.</dc:title>
</cp:coreProperties>
</file>